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© Good Hifi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Glue rings to the back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manu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Remove foam-left over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Remove foam – left over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 the frame there will be some foam left. Remove it by using a cloth with some alcohol (or similar) on i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you want, you can try to remove any grease left on the frame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Check woofer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129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Check woofer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ok at the membrane and the frame. Is it really clean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ss the woofer downwards a few time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Glue ring to cone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Glue ring to cone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ld’ the ring behind the cone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ft the cone a little, put a little glue between ring (inner ‘lip’) and cone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peat this, working your way around the woofer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pread the glue if you want. You can also spread the glue by moving the ring around a little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Apply pressure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70400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Apply pressure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ush the ring to the back of the cone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move any glue that’s to much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ut something on the inner side of the ring applying pressure to ring and come. You can use a cup, a small pan, ….. Leave it for a few hours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Glue ring to frame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129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Glue ring to frame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Arial"/>
              </a:rPr>
              <a:t>Is the inner par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lued OK?? Glue is dry?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ift the ring a little, put a little glue between ring (outer part) and frame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peat this, working your way around the woofer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pread the glue if you want – slide your finger around the ring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pply pressure, using a tool like a pan…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71640" y="476280"/>
            <a:ext cx="684036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sclaim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ood Hifi or persons acting on behalf of Good Hifi will take no responsibility for refoams performed by third parties. Any person performing a refoam with rings bought from Good Hifi is responsible for his or her own rep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lease note you are free to share this file with other people. Any commercial use is prohib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ood Hi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ebruar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Glueing to frame - hint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enter the ring?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lay a very low tone (5 Hz / 10 Hz) over the woofer at a very low level while the glue is still wet. The woofer will tend to center itself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est woofer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9850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Test woofer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glue is dry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lay my test-signals over the woofer. Listen if you hear any scraping sounds. Push the woofer (while not playing!) a few times – feel if there’s any scraping. If the woofer is not centered (i.e. you feel or hear the scraping), remove the ring an apply another one – centered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verything OK? Enjoy your ‘new’ woofer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Materials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71280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Remove old ring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673280"/>
            <a:ext cx="7775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Remove old ring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ut the old ring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move as much as possible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ware: the old ring is pretty dirty stuff. Be careful with your clothes, table cover etc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Remove from back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41708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Remove from back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se a knife or your nail to remove as much foam and glue from the back of the membrane as you can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y bending the cone a little it gets easier. Don’t bend to far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you remove the ring it’s possible you tear a small layer of paper of the woofer’s cone – that’s no problem (former picture)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Clean the frame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417080" cy="49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Clean the frame</a:t>
            </a:r>
            <a:endParaRPr b="0" lang="en-US" sz="6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ut as much foam us you can, using a sharp knife.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ut as much old glue as you can – you can leave some glue if you want.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1:11:00Z</dcterms:created>
  <dc:creator>Good Hifi</dc:creator>
  <dc:description/>
  <dc:language>en-US</dc:language>
  <cp:lastModifiedBy>MijnPC</cp:lastModifiedBy>
  <dcterms:modified xsi:type="dcterms:W3CDTF">2007-02-03T21:57:52Z</dcterms:modified>
  <cp:revision>5</cp:revision>
  <dc:subject/>
  <dc:title>Randen aan de achterzijde monteren</dc:title>
</cp:coreProperties>
</file>